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995-830E-4470-8012-8E12EABF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FE6-1AB7-4ABA-A524-53C52980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C82-A546-4EC1-A9E8-83B0F4F5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093-ED8C-4091-9937-01EFB4BB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38A0-FBF3-4F43-9E37-53482FE3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BCC9-96E9-4B02-8177-117431A8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39BA-6B32-486A-80D1-70268F64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07DF-AA2C-42E3-A289-0D3117A5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0BBA-9777-45FE-AA74-044E3399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B982-81D7-4A8C-8620-0EC89F9B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8837-840E-44D8-9B49-413DDE36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3AF-911B-4E0B-838B-1808363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ABF2-028D-47B3-B505-25B22DDD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E786-9F48-4102-ADDD-58DF460F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DF8B-0890-4632-855C-709CD0EE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4C55-FB04-4CA3-B43F-EACBB08A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A396-F5EE-438E-86E6-56B548A3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F77-7E8A-4A76-8245-1C7D96D6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87F-62FA-4E86-871F-0AB1F4F8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1C00-6CEA-44AB-B6C7-28754C3E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C1D-173E-4453-9F9E-DC2D4071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45C-971F-48B3-B2CE-13839EB9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33E1-88BC-44B5-B3FE-9DABFE1A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07D-34DD-4C13-A570-7EE18FB5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D67A-AA67-4F33-8E42-5EC2737B9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32F9-B37A-4B89-8F1F-ABCF7EC9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Bean Bag Toss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ss bean bags onto words to practice gross motor skills and vocabulary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Bean Bag To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words on the flo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class into two or three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take turns tossing their bean bag onto vocabular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 keep words they can give the correct definition for, or use correctly in a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ning team has the most cards at the end of the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48:15Z</dcterms:modified>
  <cp:revision>7</cp:revision>
  <dc:subject/>
  <dc:title>Light Up the World A vocabulary game from Mentoring Minds Grades 1-4</dc:title>
</cp:coreProperties>
</file>